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54CA-8B99-4670-AE3A-F84A5A3A33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создана на основе материалов Н.Н. Хом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иск решения проблем методом проб и ошибок – самый древний из всех существующих методов. Столкнувшись с проблемой, человек пытается применить для её решения те способы, которые уже имели место в его опыте. Определённый тип проблем решается этим методом. Но если проблема принципиально нова и старые способы не подходят, он начинает хаотично перебирать разные варианты. Однако поле поиска ответа на вопрос огромно, а механизмы его сужения неэффективны. Иногда решатель бывает очень близок к ответу на поставленный вопрос, однако под воздействием внешних факторов (чаще всего – психологических барьеров) он уходит в своих поисках далеко «в сторону». Гарантии, что наступит момент озарения и решение отыщется,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РИЗ и ОТСМ решатель строит образ идеального решения, а затем его постоянно дорабатывает, что позволяет ориентироваться в том, насколько он приближается к решению или удаляется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лючевая задача ОТСМ-ТРИЗ состоит в том, чтобы без сплошного перебора вариантов через целенаправленное суждение поля поиска выходить сразу в область сильных решений. Качество решения зависит не от  числа генерируемых  идей, а от того, насколько выбранное решение соответствует требованиям идеальности в данной конкрет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системы (материальные и нематериальные) развиваются по определённым законам. Общей для всех систем является линия их «жизни»: рождение, развитие и исчерпание ресурсов развития в данных условиях. На определённом этапе развития эти ресурсы истощаются. Или меняются внешние условия существования системы. Тогда она  выходит в «надсистему» и развивается как часть новой системы со своей  линией развития, либо продолжает существовать с минимальными изменениями или без таковых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а решения проблем может быть рассмотрена как нематериальная система. На первых этапах развития человечество накапливает опыт типовых решений. Чем больше люди понимают, что могут изменять окружающий мир в соответствии со своими потребностями,  тем больше мир сопротивляется этому воздействию. Научно-технический прогресс вместе с новыми достижениями несёт с собой увеличение потока проблем. Поэтому в начале ХХ века активно развиваются различные модификации МПиО. Это даёт возможность генерации множества идей, но слишком затратно на стадии процесса анализа полученных решений и выбора наилучшего для конкретной ситуации. Попытка алгоритмизировать МПиО приводит к пониманию необходимости замены МПиО на более эффективную технологию работы с проблемами, которая для каждой конкретной ситуации гарантировано давала бы наилучшее решение при минимальных затратах для его получения. Так появляется ТРИЗ (теория решения изобретательских задач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ка решения образовательных проблем прошла подобный путь развития. До появления педагогики как науки все образовательные  проблемы решались только методом проб и ошибок – человечество накапливало опыт воспитания подрастающего поколения и фонд стандартных решений типовых проблем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Амос Коменский впервы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сделал попытку описать накопленный опыт в обобщённом виде. Так появился один из первых перечней методов и приёмов работы в образовании (Я. А. Коменский «Великая дидактика или Как всех учить всему»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бор методов и приёмов работы получил название методики – совокупности средств и способов решения поставленной образовательной задачи.  Перебор вариантов сочетания методов и приёмов работы (обучающие методики) долгое время обеспечивал разнообразие форм организации работы с детьми, но не давал инструментальности в решении педагогических проблем. Это привело к усреднённости требований к ученику в массовой системе образования. Число проблем в педагогической деятельности достигло своей критической массы и потребовало технологичности в подходах к решению. Появились образовательные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М-ТРИЗ – универсальная технология работы с проблемами разного рода и из различных областей знания. Поэтому освоение основ ОТСМ-ТРИЗ как надпредметного курса становится необходим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М-ТРИЗ – относительно новое направление, родившееся в процессе развития ТРИЗ (теории решения изобретательских задач). Возникновение ОТСМ закономерно – для решения проблем из любой области деятельности человека необходима универсальная технология работы с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универсальности несколько «еретично»; далеко не всё новое сразу принимается обществом. В 1986 году на семинаре "Теория решения изобретательских задач« в Высшей школе хозяйственного управления при Симферопольском горкоме компартии Украины Г.С. Альтшуллер при изложении истории развития АРИЗ говорил: « Когда была "методика изобретательства" кричали, что надо говорить о "некоторых полезных советах изобретателю", а "алгоритмическая методика" и алгоритм – это никак не возможно... Когда появилась ТРИЗ, уцепились за слово "алгоритм", т.е. АРИЗ. Эти понятия стали законными, а неприятие и ненависть были перенесены на ТРИЗ, ТРТС, ОТС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126-D320-46FC-904E-746FB783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AFC-59A6-4781-BEE2-4935CAB6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5DA-29B5-4A47-AA33-F8664A1F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556-5C25-4F24-A735-E014415A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3A40-E0B6-498A-9DD8-1FFC3392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0758-9DBD-4A21-B3D6-FD227BE8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D055-20E8-4988-A301-392C9BAB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2D6F-994E-4B9D-BA47-3624F71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A469-F944-44F2-8201-A8CC630F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1F47-D45A-4587-B055-3D06A53F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418A-2704-4E1A-A02C-A4339857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DA8-CA0C-4B0F-BD63-22021574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E68C-F7CD-4470-8E84-FB0134F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6BAD-754C-4039-AB0B-0C8E02B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3DDE-2679-425F-95E6-DAD54F24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3372-133F-4209-B52D-B875C006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4FCD-C654-4927-AE77-9AB0CA4E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082-4BF4-4C56-B8AC-F1E4A85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F6E-5AE1-454C-A15B-94A1591D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010-8DC1-4679-992D-F5BBC9C2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CF8-70CF-497D-ADEF-0D1272AE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F06-6E4E-4FF5-83F5-3B97F38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F76-F51F-4E75-8D6F-7389C62F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88E-2388-426B-B349-ECA8ABBE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1709-E6F5-4482-89C0-572ADD3D220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659D-692B-4578-A05B-2DC441F78B0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510920"/>
            <a:ext cx="7632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тановление практики решения проблем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от методик к технологиям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-1908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 Narrow"/>
              </a:rPr>
              <a:t>Поиск решения проблем </a:t>
            </a: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Arial Narrow"/>
              </a:rPr>
              <a:t>методом проб и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2133720"/>
            <a:ext cx="1223640" cy="672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4952880"/>
            <a:ext cx="1368360" cy="5637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99480" y="5067360"/>
            <a:ext cx="495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50920" y="1052640"/>
            <a:ext cx="914400" cy="1065240"/>
            <a:chOff x="250920" y="1052640"/>
            <a:chExt cx="914400" cy="1065240"/>
          </a:xfrm>
        </p:grpSpPr>
        <p:sp>
          <p:nvSpPr>
            <p:cNvPr id="165" name=""/>
            <p:cNvSpPr/>
            <p:nvPr/>
          </p:nvSpPr>
          <p:spPr>
            <a:xfrm flipH="1" flipV="1">
              <a:off x="785880" y="1336680"/>
              <a:ext cx="379440" cy="78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0920" y="1052640"/>
              <a:ext cx="380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4920" y="2708280"/>
            <a:ext cx="864360" cy="993600"/>
            <a:chOff x="34920" y="2708280"/>
            <a:chExt cx="864360" cy="993600"/>
          </a:xfrm>
        </p:grpSpPr>
        <p:sp>
          <p:nvSpPr>
            <p:cNvPr id="168" name=""/>
            <p:cNvSpPr/>
            <p:nvPr/>
          </p:nvSpPr>
          <p:spPr>
            <a:xfrm flipH="1">
              <a:off x="324360" y="2708280"/>
              <a:ext cx="574920" cy="9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20" y="2848680"/>
              <a:ext cx="288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677960" y="2744640"/>
            <a:ext cx="1522440" cy="928800"/>
            <a:chOff x="1677960" y="2744640"/>
            <a:chExt cx="1522440" cy="928800"/>
          </a:xfrm>
        </p:grpSpPr>
        <p:sp>
          <p:nvSpPr>
            <p:cNvPr id="171" name=""/>
            <p:cNvSpPr/>
            <p:nvPr/>
          </p:nvSpPr>
          <p:spPr>
            <a:xfrm>
              <a:off x="1677960" y="2744640"/>
              <a:ext cx="988920" cy="60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66880" y="312408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14400" y="2820960"/>
            <a:ext cx="533520" cy="2833920"/>
            <a:chOff x="914400" y="2820960"/>
            <a:chExt cx="533520" cy="2833920"/>
          </a:xfrm>
        </p:grpSpPr>
        <p:sp>
          <p:nvSpPr>
            <p:cNvPr id="174" name=""/>
            <p:cNvSpPr/>
            <p:nvPr/>
          </p:nvSpPr>
          <p:spPr>
            <a:xfrm flipH="1">
              <a:off x="992160" y="2820960"/>
              <a:ext cx="303120" cy="228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14400" y="510552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763640" y="1413000"/>
            <a:ext cx="865080" cy="864720"/>
            <a:chOff x="1763640" y="1413000"/>
            <a:chExt cx="865080" cy="864720"/>
          </a:xfrm>
        </p:grpSpPr>
        <p:sp>
          <p:nvSpPr>
            <p:cNvPr id="177" name=""/>
            <p:cNvSpPr/>
            <p:nvPr/>
          </p:nvSpPr>
          <p:spPr>
            <a:xfrm flipV="1">
              <a:off x="1763640" y="1630080"/>
              <a:ext cx="86508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34920" y="1413000"/>
              <a:ext cx="5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19200" y="2814480"/>
            <a:ext cx="1681200" cy="2840400"/>
            <a:chOff x="1519200" y="2814480"/>
            <a:chExt cx="1681200" cy="2840400"/>
          </a:xfrm>
        </p:grpSpPr>
        <p:sp>
          <p:nvSpPr>
            <p:cNvPr id="180" name=""/>
            <p:cNvSpPr/>
            <p:nvPr/>
          </p:nvSpPr>
          <p:spPr>
            <a:xfrm>
              <a:off x="1519200" y="2814480"/>
              <a:ext cx="1293840" cy="2284560"/>
            </a:xfrm>
            <a:prstGeom prst="line">
              <a:avLst/>
            </a:prstGeom>
            <a:ln w="25560">
              <a:solidFill>
                <a:srgbClr val="f766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510552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814480" y="3352680"/>
            <a:ext cx="2976840" cy="1746000"/>
            <a:chOff x="2814480" y="3352680"/>
            <a:chExt cx="2976840" cy="1746000"/>
          </a:xfrm>
        </p:grpSpPr>
        <p:sp>
          <p:nvSpPr>
            <p:cNvPr id="183" name=""/>
            <p:cNvSpPr/>
            <p:nvPr/>
          </p:nvSpPr>
          <p:spPr>
            <a:xfrm flipV="1">
              <a:off x="2814480" y="3652560"/>
              <a:ext cx="2436840" cy="1446120"/>
            </a:xfrm>
            <a:prstGeom prst="line">
              <a:avLst/>
            </a:prstGeom>
            <a:ln w="25560">
              <a:solidFill>
                <a:srgbClr val="f766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7800" y="335268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24120" y="2209680"/>
            <a:ext cx="3046320" cy="2965680"/>
            <a:chOff x="1824120" y="2209680"/>
            <a:chExt cx="3046320" cy="2965680"/>
          </a:xfrm>
        </p:grpSpPr>
        <p:sp>
          <p:nvSpPr>
            <p:cNvPr id="186" name=""/>
            <p:cNvSpPr/>
            <p:nvPr/>
          </p:nvSpPr>
          <p:spPr>
            <a:xfrm flipV="1">
              <a:off x="1824120" y="2433240"/>
              <a:ext cx="1979640" cy="1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348000" y="2433600"/>
              <a:ext cx="455760" cy="2741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348000" y="3348000"/>
              <a:ext cx="1522440" cy="182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2209680"/>
              <a:ext cx="838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697200" y="1430280"/>
            <a:ext cx="3008520" cy="1084320"/>
            <a:chOff x="3697200" y="1430280"/>
            <a:chExt cx="3008520" cy="1084320"/>
          </a:xfrm>
        </p:grpSpPr>
        <p:sp>
          <p:nvSpPr>
            <p:cNvPr id="191" name=""/>
            <p:cNvSpPr/>
            <p:nvPr/>
          </p:nvSpPr>
          <p:spPr>
            <a:xfrm>
              <a:off x="6172200" y="190512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97200" y="1430280"/>
              <a:ext cx="2855880" cy="10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16040" y="1419120"/>
            <a:ext cx="1370160" cy="549360"/>
            <a:chOff x="2516040" y="1419120"/>
            <a:chExt cx="1370160" cy="549360"/>
          </a:xfrm>
        </p:grpSpPr>
        <p:sp>
          <p:nvSpPr>
            <p:cNvPr id="194" name=""/>
            <p:cNvSpPr/>
            <p:nvPr/>
          </p:nvSpPr>
          <p:spPr>
            <a:xfrm>
              <a:off x="3352680" y="1419120"/>
              <a:ext cx="533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516040" y="1420920"/>
              <a:ext cx="12178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400800" y="2516040"/>
            <a:ext cx="838080" cy="3596040"/>
            <a:chOff x="6400800" y="2516040"/>
            <a:chExt cx="838080" cy="3596040"/>
          </a:xfrm>
        </p:grpSpPr>
        <p:sp>
          <p:nvSpPr>
            <p:cNvPr id="197" name=""/>
            <p:cNvSpPr/>
            <p:nvPr/>
          </p:nvSpPr>
          <p:spPr>
            <a:xfrm>
              <a:off x="6705720" y="5334120"/>
              <a:ext cx="228600" cy="228600"/>
            </a:xfrm>
            <a:prstGeom prst="ellipse">
              <a:avLst/>
            </a:prstGeom>
            <a:solidFill>
              <a:srgbClr val="ffe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00800" y="5562720"/>
              <a:ext cx="838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4880" y="2516040"/>
              <a:ext cx="303120" cy="281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982520" y="4420800"/>
            <a:ext cx="4723200" cy="1827720"/>
            <a:chOff x="1982520" y="4420800"/>
            <a:chExt cx="4723200" cy="1827720"/>
          </a:xfrm>
        </p:grpSpPr>
        <p:sp>
          <p:nvSpPr>
            <p:cNvPr id="201" name=""/>
            <p:cNvSpPr/>
            <p:nvPr/>
          </p:nvSpPr>
          <p:spPr>
            <a:xfrm flipH="1" flipV="1">
              <a:off x="5335560" y="4420800"/>
              <a:ext cx="1370160" cy="9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982520" y="4497480"/>
              <a:ext cx="3351240" cy="17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573960" y="2516040"/>
            <a:ext cx="2341440" cy="2132280"/>
            <a:chOff x="6573960" y="2516040"/>
            <a:chExt cx="2341440" cy="2132280"/>
          </a:xfrm>
        </p:grpSpPr>
        <p:sp>
          <p:nvSpPr>
            <p:cNvPr id="204" name=""/>
            <p:cNvSpPr/>
            <p:nvPr/>
          </p:nvSpPr>
          <p:spPr>
            <a:xfrm>
              <a:off x="8001000" y="4419720"/>
              <a:ext cx="228600" cy="228600"/>
            </a:xfrm>
            <a:prstGeom prst="ellipse">
              <a:avLst/>
            </a:prstGeom>
            <a:solidFill>
              <a:srgbClr val="ffe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4038480"/>
              <a:ext cx="838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Bookman Old Style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Bookman Old Style"/>
                </a:rPr>
                <a:t>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3960" y="2516040"/>
              <a:ext cx="1427040" cy="19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V="1">
            <a:off x="8155080" y="1639800"/>
            <a:ext cx="531720" cy="274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-1908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99"/>
                </a:solidFill>
                <a:latin typeface="Arial Narrow"/>
              </a:rPr>
              <a:t>      </a:t>
            </a:r>
            <a:r>
              <a:rPr b="0" i="1" lang="ru-RU" sz="3200" spc="-1" strike="noStrike">
                <a:solidFill>
                  <a:srgbClr val="000099"/>
                </a:solidFill>
                <a:latin typeface="Arial Narrow"/>
              </a:rPr>
              <a:t>Сужение поля поиска решений в ОТСМ-ТР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30240" y="2820960"/>
            <a:ext cx="5942160" cy="258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2276640"/>
            <a:ext cx="1224000" cy="7207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96360" y="4941720"/>
            <a:ext cx="1225440" cy="9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81920" y="5226120"/>
            <a:ext cx="495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06560" y="2592000"/>
            <a:ext cx="1979640" cy="150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430440" y="2592360"/>
            <a:ext cx="455760" cy="274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430440" y="3506760"/>
            <a:ext cx="1522440" cy="1827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649760" y="3506760"/>
            <a:ext cx="303120" cy="19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49760" y="4039920"/>
            <a:ext cx="1065240" cy="144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640120" y="4040280"/>
            <a:ext cx="74520" cy="15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640480" y="4420800"/>
            <a:ext cx="760320" cy="1141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02240" y="4421160"/>
            <a:ext cx="74880" cy="1217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478560" y="4802040"/>
            <a:ext cx="836640" cy="836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16640" y="4802040"/>
            <a:ext cx="455760" cy="455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1640" y="2973240"/>
            <a:ext cx="1293840" cy="228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897280" y="3811320"/>
            <a:ext cx="2436840" cy="1446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923160" y="5474880"/>
            <a:ext cx="836640" cy="227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5560" y="3811680"/>
            <a:ext cx="1598760" cy="1903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667800" y="-6322320"/>
            <a:ext cx="12248280" cy="12863160"/>
            <a:chOff x="-667800" y="-6322320"/>
            <a:chExt cx="12248280" cy="12863160"/>
          </a:xfrm>
        </p:grpSpPr>
        <p:grpSp>
          <p:nvGrpSpPr>
            <p:cNvPr id="228" name=""/>
            <p:cNvGrpSpPr/>
            <p:nvPr/>
          </p:nvGrpSpPr>
          <p:grpSpPr>
            <a:xfrm>
              <a:off x="-667800" y="-6322320"/>
              <a:ext cx="12248280" cy="12863160"/>
              <a:chOff x="-667800" y="-6322320"/>
              <a:chExt cx="12248280" cy="12863160"/>
            </a:xfrm>
          </p:grpSpPr>
          <p:sp>
            <p:nvSpPr>
              <p:cNvPr id="229" name=""/>
              <p:cNvSpPr/>
              <p:nvPr/>
            </p:nvSpPr>
            <p:spPr>
              <a:xfrm rot="13740000">
                <a:off x="-550800" y="-2782800"/>
                <a:ext cx="12015000" cy="578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20" y="5813"/>
                    </a:moveTo>
                    <a:arcTo wR="10800" hR="10800" stAng="-9150117" swAng="37492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20" y="5813"/>
                    </a:moveTo>
                    <a:arcTo wR="10800" hR="10800" stAng="-9150117" swAng="3749209"/>
                  </a:path>
                </a:pathLst>
              </a:custGeom>
              <a:noFill/>
              <a:ln cap="rnd" w="76320">
                <a:solidFill>
                  <a:srgbClr val="220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08000" y="5208480"/>
                <a:ext cx="6014520" cy="608040"/>
              </a:xfrm>
              <a:prstGeom prst="line">
                <a:avLst/>
              </a:prstGeom>
              <a:ln w="76320">
                <a:solidFill>
                  <a:srgbClr val="2209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rot="300000">
              <a:off x="2855520" y="5571720"/>
              <a:ext cx="1925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ОТСМ-ТР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460000">
              <a:off x="3875040" y="2772360"/>
              <a:ext cx="1925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ОТСМ-ТРИ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9109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Кривая развития сист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35280" y="1268280"/>
            <a:ext cx="5976720" cy="4321440"/>
            <a:chOff x="1835280" y="1268280"/>
            <a:chExt cx="5976720" cy="432144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835280" y="1268280"/>
              <a:ext cx="4824360" cy="43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276720" y="3860640"/>
              <a:ext cx="158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22760" y="4786200"/>
              <a:ext cx="149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" name=""/>
            <p:cNvCxnSpPr/>
            <p:nvPr/>
          </p:nvCxnSpPr>
          <p:spPr>
            <a:xfrm flipV="1">
              <a:off x="5651280" y="1483560"/>
              <a:ext cx="2161080" cy="1585080"/>
            </a:xfrm>
            <a:prstGeom prst="curvedConnector5">
              <a:avLst>
                <a:gd name="adj1" fmla="val 68827"/>
                <a:gd name="adj2" fmla="val 50000"/>
                <a:gd name="adj3" fmla="val 68827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1835280" y="2844720"/>
              <a:ext cx="360360" cy="14472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08000" y="4308480"/>
              <a:ext cx="360360" cy="1443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0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Кривая развития практики </a:t>
            </a:r>
            <a:br>
              <a:rPr sz="3200"/>
            </a:b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решения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476360" y="1197000"/>
            <a:ext cx="7128000" cy="4321080"/>
            <a:chOff x="1476360" y="1197000"/>
            <a:chExt cx="7128000" cy="432108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1476360" y="1197000"/>
              <a:ext cx="48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276720" y="3860640"/>
              <a:ext cx="158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22760" y="4786200"/>
              <a:ext cx="149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92360" y="4581360"/>
              <a:ext cx="2735280" cy="398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Метод Проб и Ошиб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56000" y="3357720"/>
              <a:ext cx="3024360" cy="703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Методы Активизации Перебора Вариа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/>
            <p:nvPr/>
          </p:nvCxnSpPr>
          <p:spPr>
            <a:xfrm flipV="1">
              <a:off x="5219640" y="1340640"/>
              <a:ext cx="2161080" cy="1585080"/>
            </a:xfrm>
            <a:prstGeom prst="curvedConnector5">
              <a:avLst>
                <a:gd name="adj1" fmla="val 68843"/>
                <a:gd name="adj2" fmla="val 50000"/>
                <a:gd name="adj3" fmla="val 68843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49" name=""/>
            <p:cNvSpPr/>
            <p:nvPr/>
          </p:nvSpPr>
          <p:spPr>
            <a:xfrm>
              <a:off x="6804000" y="2205000"/>
              <a:ext cx="1800360" cy="100872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Технологии, основанные на   ТРИ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47640" y="2692440"/>
              <a:ext cx="287640" cy="216000"/>
            </a:xfrm>
            <a:prstGeom prst="rect">
              <a:avLst/>
            </a:pr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71760" y="4173480"/>
              <a:ext cx="287280" cy="216000"/>
            </a:xfrm>
            <a:prstGeom prst="rect">
              <a:avLst/>
            </a:prstGeom>
            <a:solidFill>
              <a:srgbClr val="ffffff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44280"/>
            <a:ext cx="910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Кривая развития практики </a:t>
            </a:r>
            <a:br>
              <a:rPr sz="3200"/>
            </a:br>
            <a:r>
              <a:rPr b="0" i="1" lang="en-US" sz="3200" spc="-1" strike="noStrike">
                <a:solidFill>
                  <a:srgbClr val="000099"/>
                </a:solidFill>
                <a:latin typeface="Arial Narrow"/>
              </a:rPr>
              <a:t>решения образовате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2205000"/>
            <a:ext cx="2376720" cy="7038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Образовательны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16000" y="1197000"/>
            <a:ext cx="6480360" cy="4321080"/>
            <a:chOff x="1116000" y="1197000"/>
            <a:chExt cx="6480360" cy="432108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116000" y="1197000"/>
              <a:ext cx="48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276720" y="3860640"/>
              <a:ext cx="158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22760" y="4786200"/>
              <a:ext cx="149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4000" y="4221000"/>
              <a:ext cx="3240000" cy="703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Практическая деятельность, накопление опы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16360" y="3357720"/>
              <a:ext cx="288000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 Narrow"/>
                </a:rPr>
                <a:t>Обучающие методи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V="1">
              <a:off x="4643280" y="1340640"/>
              <a:ext cx="2161080" cy="1585080"/>
            </a:xfrm>
            <a:prstGeom prst="curvedConnector5">
              <a:avLst>
                <a:gd name="adj1" fmla="val 68843"/>
                <a:gd name="adj2" fmla="val 50000"/>
                <a:gd name="adj3" fmla="val 68843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61" name=""/>
            <p:cNvSpPr/>
            <p:nvPr/>
          </p:nvSpPr>
          <p:spPr>
            <a:xfrm>
              <a:off x="1187280" y="4181400"/>
              <a:ext cx="289080" cy="216000"/>
            </a:xfrm>
            <a:prstGeom prst="rect">
              <a:avLst/>
            </a:prstGeom>
            <a:solidFill>
              <a:srgbClr val="ffffff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47680" y="2692440"/>
              <a:ext cx="289080" cy="21600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39589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Человек сможет Хорошо Мыслить, если будет создана Общая Теор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Хорошего Мышления. В этом - конечная цель нашей работы"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Альтшуллер Г.С., Фильковский Г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Современное состояние теории реш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        изобретательских задач.-Баку, 1975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"Развитие всех систем подчинено сходным закономерностям, поэтому многие идеи и механизмы ТРИЗ могут быть использованы  при построении теорий решения нетехнических творческих задач"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 Narrow"/>
              </a:rPr>
              <a:t>Альтшуллер Г.С.  Справка "ТРИЗ-88"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2916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5:39:31Z</dcterms:created>
  <dc:creator>Корзун А.В.</dc:creator>
  <dc:description/>
  <dc:language>en-US</dc:language>
  <cp:lastModifiedBy>Dmitry K.</cp:lastModifiedBy>
  <dcterms:modified xsi:type="dcterms:W3CDTF">2004-04-20T18:24:21Z</dcterms:modified>
  <cp:revision>19</cp:revision>
  <dc:subject/>
  <dc:title>Становление практики решения проблем</dc:title>
</cp:coreProperties>
</file>