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15138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148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27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62440" y="-360"/>
            <a:ext cx="29527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50400" y="736200"/>
            <a:ext cx="49150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7560" y="4667400"/>
            <a:ext cx="4999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333000"/>
            <a:ext cx="2952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62440" y="9333000"/>
            <a:ext cx="2952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4D7A-1E4C-4AC6-AF37-8097E536B4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7560" y="4667400"/>
            <a:ext cx="4999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исание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ошкольной практике объективно сложилось так, что использование элементов ТРИЗ и РТВ в процессе обучения детей изначально основывалось на личной инициативе отдельных педагогов и лишь позже получило поддержку со стороны системы образования. Работа в инновационном режиме отдельных ДОУ доказала эффективность подхода, называемого сегодн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тельной ТРИЗ-технологие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этим термином мы будем подразумевать использование механизмов ОТСМ-ТРИЗ для решения образователь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получить эту эффективность (качество), необходимо ставить вопрос о критериях его оценки. Однако современная ситуация такова, что ТРИЗ-технология в дошкольном образовании представлена несколькими различными моделями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Корзун А.В. «Цели, задачи и содержание ТРИЗ-педагогики»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trizminsk.org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0018.htm). Но ни одна из этих моделей официально не утверждена. Следовательно нет и утверждённых образовательных стандартов для этой технологии.  Однако качество образовательного процесса в инновационном ДОУ отслеживать необходимо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бы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7560" y="4667400"/>
            <a:ext cx="4999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личие от предыдущей модели, здесь предлагается оценивать способность ребёнка применить тот или иной инструмент. Например: умеет ли ребёнок составить морфотаблицу, сформулировать противоречие или ИКР (идеальный конечный результат) при решении творческой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7560" y="4667400"/>
            <a:ext cx="4999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за основу берётся базисная программа, то и в диагностике необходимо прежде всего отслеживать выполнение заложенных в ней образовательных стандар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же методик для отслеживания позитивных изменений в способности к 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мыслитель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стаётся за педагогом или психологом учр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560" y="4667400"/>
            <a:ext cx="4999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нтеграции двух программ диагностике подлежит степень выполнения двух групп стандартов. Но как правило, для программ, созданных в моделях образовательной ТРИЗ-технологии, стандарты чётко  не прописаны, особенно для дошкольников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см. Рубин М.С., Рубина Н.В. Стандарты на применение методов РТВ-ТРИЗ-ТРТЛ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www.trizminsk.org/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pr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33013.htm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ход простой: в вариативной программе задачи следует сформулировать в виде умений. Например. Глагол «учить», заменить сочетанием «ребенок должен уме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вид диагностики в этом случае (медицинская) крайне необходим потому, что реализация в образовательном процессе сразу 2-х программ может вызвать двойную интеллектуальную нагрузку на ребёнка, что может повлечь переутомление или иные негативные реакции.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Этого не произойдёт, если сделана грамотная интеграция; если ОТСМ-ТРИЗ-РТВ-компонент является не столько содержанием, сколько методом реализации образователь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0720" y="685800"/>
            <a:ext cx="4911480" cy="3684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7560" y="4667400"/>
            <a:ext cx="4999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у профессиональной компетентности педагога осуществляет методист на основе анализа всего комплекса умений, как общепрофессиональных, заложенных в квалификационной характеристике, так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и инновацио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7560" y="4667400"/>
            <a:ext cx="4999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качества образовательного процесса осуществляется по положениям, отражённым н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хем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основе его в государственном учреждении лежит нормативно-правовая база. Она определяется руководящими органами и не подлежит кардинальному изменению в рамках отдельного учреждения образования. Если есть соответствующее методическое обеспечение, рационально организованная развивающая среда, а педагог профессионально компетентен, то возможно наблюдать проявление детской успеш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и диагностировать можно каждый из компонентов диаграммы. Но с нормативно-правовой базой в рамках ДОУ этого делать нельзя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язательный для выполнения компонент может быть оценен на качество только соответствующим государственным институтом. Для диагностики качества методического обеспечения и развивающей среды нет утверждённых критериев, кроме тех, которые касаются любого обеспечения, независимо от технологии. Остаётся судить о результативности работы по детской успешности и профессиональному росту педагогов. Первая отслеживается в педагогическом наблюдении и психологической диагностике. Второй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работанными  педагогической психологией методи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7560" y="4667400"/>
            <a:ext cx="4999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т стандартов и утверждённого пакета диагностик, а положительная динамика в образовательном процессе наблюдается, то для анализа качества образовательного процесса инструментарий следует создавать самостоятельно. Для этого мы определяем базовые положения, которые следует учитывать при создании диагностического инструментар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7560" y="4667400"/>
            <a:ext cx="4999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наблюдения позволяют сделать вывод о том, что в современной дошкольной практике используются четыре основные модели применения ТРИЗ и РТВ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Корзун А.В. «Цели, задачи и содержание ТРИЗ-педагогики»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trizminsk.org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0018.htm). Очевидно, что для каждого случая диагностика качества будет иметь специфические особ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7560" y="4667400"/>
            <a:ext cx="4999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дагогической деятельности взаимодействуют две стороны: воспитанник (ребёнок) и педагог (взрослый). Следовательно и диагностической процедуре должны подвергаться обе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7560" y="4667400"/>
            <a:ext cx="4999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детской успешности можно оценивать по динамике развития психических процессов, в первую очередь – воображения и мышления, а также по накоплению новых способностей к осуществлению познавательной деятельности (в привычном понимании – умений и навыков). Первая часть диагностируется психологом, вторая – выявляется педагогом через активное общение с ребёнком в процессе его познава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7560" y="4667400"/>
            <a:ext cx="4999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фициально рекомендуемой технологии осуществления нет, то проблема решается путём самостоятельного её построения. Для этого необходимо выявить, что должно оцениваться, какими процедурами и по каким критер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деле логично идти от цели – зачем мы хотим использовать образовательную ТРИЗ-технологию, чего мы ожидаем в качестве результата. Однако ситуация сложилась так, что в процессе популяризации этого подхода, прежде всего принималась модель, предлагаемая лектором, и </a:t>
            </a: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оценивал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ультат </a:t>
            </a: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ее применен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 целях использования той или иной модели вопрос встал гораздо позднее. Поэтому в данной работе мы будем идти не от целей, а от той модели, которую уже использует педагог в своей практ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256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560" y="4667400"/>
            <a:ext cx="4999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инструменты позволяют не только научить создавать творческой речевой продукт. Можно ставить цель формирования отдельных навыков мышления или управляемого воображения, или создания творческого продукта в других видах деятельности (в рисунках, лепке и т.д.).  Очевидно одно – если мы ставим задачу научить действовать по определённой модели, то и оценивать будем это умение. Например: умеет ли ребёнок составить загадку по той или иной модели, сконструировать сказочный сюжет, провести цепочку рассуждений при работе с задачей «Да-Нет»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6B5-B004-49A7-9698-8C41B4DF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80F-30F4-4A21-8AB6-3805FEC2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536-5085-462E-BB6E-50293A7B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CE1-A7FC-4912-84B2-3E8E31BF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4241-ABAA-4B42-8A19-F0AE98F1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C28E-EE12-4950-BEE9-AD4A4E99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A70E-EB9D-45BE-9679-0F26691B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CF92-8BA1-42E7-A6D4-0D72EB53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811D-8754-404A-85AA-2CF2BD9E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6AE1-E841-4C0A-AAE6-511A27B3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20A9-238E-4516-A5D8-F6D97A81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710-BB92-4018-91DF-402E22F7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4F48-812F-4629-8FF7-9A6EFE6D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B602-E53B-4B9D-94E8-E88DE2EC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7D87-1FD4-4427-873C-D083B351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40CB-2BB7-465A-BDCC-E022C5E0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2F4F-3FD4-4BFB-9E0E-4F0ECC9F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33A-659D-4475-A130-B5356F3A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F6A-61C3-47CB-9749-313C6191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46C-2C67-463E-B49D-A7EF61F5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A5D-CFC9-4C84-A657-1D79DEE6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926-7301-408C-9246-21984AF1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C3D-3263-4CCE-BF1E-1198590F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135-81B3-40C5-8872-9228E454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08C4-139B-49A0-8989-62C9D46F1AFB}" type="slidenum">
              <a:rPr b="0" lang="ru-RU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968C-0CC9-4E46-A40D-C2E95797773E}" type="slidenum">
              <a:rPr b="0" lang="ru-RU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8315280" cy="28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Корзун Анна Валерьевна</a:t>
            </a:r>
            <a:br>
              <a:rPr sz="3200"/>
            </a:br>
            <a:br>
              <a:rPr sz="4000"/>
            </a:br>
            <a:br>
              <a:rPr sz="2000"/>
            </a:b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Диагностика образовательного процесса в дошкольном учреждении, системно использующем ТРИЗ-РТВ-технологию</a:t>
            </a:r>
            <a:endParaRPr b="1" lang="en-US" sz="40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5280" y="5105160"/>
            <a:ext cx="2016000" cy="156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66"/>
                </a:solidFill>
                <a:latin typeface="Wingdings"/>
                <a:ea typeface="Wingdings"/>
              </a:rPr>
              <a:t></a:t>
            </a:r>
            <a:endParaRPr b="0" lang="en-US" sz="10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1557360"/>
            <a:ext cx="2845080" cy="1655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Изучение основ ТРИЗ и РТВ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ак отдельной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образовательной дисциплины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32000" y="1557360"/>
            <a:ext cx="2735280" cy="1655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Обучение использованию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инструментов (методов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ТРИЗ и РТВ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для решения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творческих задач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развитие креативности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1557360"/>
            <a:ext cx="2662560" cy="1655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4076640"/>
            <a:ext cx="6553440" cy="2087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1. На основе анализа результатов творческой деятельности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(решение задач, выполнение заданий, применение метода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ыявляется степень овладения данным инструментом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сихологическая диагностика креативности, системного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иалектического мышления, управляемого воображения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роизвольности психических процессов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3. Воспитательный компонент (направленность личности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3284640"/>
            <a:ext cx="2952720" cy="431640"/>
          </a:xfrm>
          <a:custGeom>
            <a:avLst/>
            <a:gdLst>
              <a:gd name="textAreaLeft" fmla="*/ 506160 w 2952720"/>
              <a:gd name="textAreaRight" fmla="*/ 2151360 w 29527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408" hR="21600" stAng="10800000" swAng="-5400000"/>
                <a:lnTo>
                  <a:pt x="12033" y="21600"/>
                </a:lnTo>
                <a:arcTo wR="7408" hR="21600" stAng="5400000" swAng="-1827922"/>
                <a:lnTo>
                  <a:pt x="20592" y="10879"/>
                </a:lnTo>
                <a:lnTo>
                  <a:pt x="17128" y="0"/>
                </a:lnTo>
                <a:lnTo>
                  <a:pt x="11647" y="10879"/>
                </a:lnTo>
                <a:lnTo>
                  <a:pt x="13807" y="10879"/>
                </a:lnTo>
                <a:arcTo wR="7408" hR="21600" stAng="3572078" swAng="1442142"/>
                <a:lnTo>
                  <a:pt x="9720" y="20520"/>
                </a:lnTo>
                <a:arcTo wR="7408" hR="21600" stAng="5785780" swAng="5014220"/>
                <a:close/>
              </a:path>
              <a:path fill="darkenLess" w="21600" h="21600">
                <a:moveTo>
                  <a:pt x="0" y="0"/>
                </a:moveTo>
                <a:arcTo wR="7408" hR="21600" stAng="10800000" swAng="-5400000"/>
                <a:lnTo>
                  <a:pt x="12033" y="21600"/>
                </a:lnTo>
                <a:arcTo wR="7408" hR="21600" stAng="5400000" swAng="385780"/>
                <a:lnTo>
                  <a:pt x="9720" y="20520"/>
                </a:lnTo>
                <a:arcTo wR="7408" hR="21600" stAng="5785780" swAng="5014220"/>
                <a:close/>
              </a:path>
            </a:pathLst>
          </a:cu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59280" y="3284640"/>
            <a:ext cx="3097440" cy="576000"/>
          </a:xfrm>
          <a:custGeom>
            <a:avLst/>
            <a:gdLst>
              <a:gd name="textAreaLeft" fmla="*/ 541800 w 3097440"/>
              <a:gd name="textAreaRight" fmla="*/ 2245680 w 309744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377600">
            <a:off x="7624800" y="3360240"/>
            <a:ext cx="1303200" cy="1765440"/>
          </a:xfrm>
          <a:custGeom>
            <a:avLst/>
            <a:gdLst>
              <a:gd name="textAreaLeft" fmla="*/ 174600 w 1303200"/>
              <a:gd name="textAreaRight" fmla="*/ 1128600 w 1303200"/>
              <a:gd name="textAreaTop" fmla="*/ 308880 h 1765440"/>
              <a:gd name="textAreaBottom" fmla="*/ 1280160 h 17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3284640"/>
            <a:ext cx="936720" cy="1657080"/>
          </a:xfrm>
          <a:custGeom>
            <a:avLst/>
            <a:gdLst>
              <a:gd name="textAreaLeft" fmla="*/ 125280 w 936720"/>
              <a:gd name="textAreaRight" fmla="*/ 811440 w 936720"/>
              <a:gd name="textAreaTop" fmla="*/ 289800 h 1657080"/>
              <a:gd name="textAreaBottom" fmla="*/ 120132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00720" y="1628640"/>
            <a:ext cx="2303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69228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одель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19640" y="692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72360" y="69228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Результат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623736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иагно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1628640"/>
            <a:ext cx="23767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Использование терминологии и инструментов ТРИЗ и РТВ, выполнение творческих заданий и решение творческих задач различного уровня сложности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1125360"/>
            <a:ext cx="2845080" cy="2087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РИЗ-РТВ-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инструментарий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 образовательном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роцесс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о обычной программе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как набор методов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реализации стандартного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держания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3640" y="1125360"/>
            <a:ext cx="2806560" cy="2087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6360" y="1125360"/>
            <a:ext cx="2736720" cy="2160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4076640"/>
            <a:ext cx="6481800" cy="2160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3284640"/>
            <a:ext cx="2952720" cy="431640"/>
          </a:xfrm>
          <a:custGeom>
            <a:avLst/>
            <a:gdLst>
              <a:gd name="textAreaLeft" fmla="*/ 506160 w 2952720"/>
              <a:gd name="textAreaRight" fmla="*/ 2151360 w 29527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408" hR="21600" stAng="10800000" swAng="-5400000"/>
                <a:lnTo>
                  <a:pt x="12033" y="21600"/>
                </a:lnTo>
                <a:arcTo wR="7408" hR="21600" stAng="5400000" swAng="-1827922"/>
                <a:lnTo>
                  <a:pt x="20592" y="10879"/>
                </a:lnTo>
                <a:lnTo>
                  <a:pt x="17128" y="0"/>
                </a:lnTo>
                <a:lnTo>
                  <a:pt x="11647" y="10879"/>
                </a:lnTo>
                <a:lnTo>
                  <a:pt x="13807" y="10879"/>
                </a:lnTo>
                <a:arcTo wR="7408" hR="21600" stAng="3572078" swAng="1442142"/>
                <a:lnTo>
                  <a:pt x="9720" y="20520"/>
                </a:lnTo>
                <a:arcTo wR="7408" hR="21600" stAng="5785780" swAng="5014220"/>
                <a:close/>
              </a:path>
              <a:path fill="darkenLess" w="21600" h="21600">
                <a:moveTo>
                  <a:pt x="0" y="0"/>
                </a:moveTo>
                <a:arcTo wR="7408" hR="21600" stAng="10800000" swAng="-5400000"/>
                <a:lnTo>
                  <a:pt x="12033" y="21600"/>
                </a:lnTo>
                <a:arcTo wR="7408" hR="21600" stAng="5400000" swAng="385780"/>
                <a:lnTo>
                  <a:pt x="9720" y="20520"/>
                </a:lnTo>
                <a:arcTo wR="7408" hR="21600" stAng="5785780" swAng="5014220"/>
                <a:close/>
              </a:path>
            </a:pathLst>
          </a:cu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9280" y="3284640"/>
            <a:ext cx="3097440" cy="649080"/>
          </a:xfrm>
          <a:custGeom>
            <a:avLst/>
            <a:gdLst>
              <a:gd name="textAreaLeft" fmla="*/ 541800 w 3097440"/>
              <a:gd name="textAreaRight" fmla="*/ 2245680 w 3097440"/>
              <a:gd name="textAreaTop" fmla="*/ 86760 h 649080"/>
              <a:gd name="textAreaBottom" fmla="*/ 5623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377600">
            <a:off x="7596360" y="3499920"/>
            <a:ext cx="1303200" cy="1765440"/>
          </a:xfrm>
          <a:custGeom>
            <a:avLst/>
            <a:gdLst>
              <a:gd name="textAreaLeft" fmla="*/ 174600 w 1303200"/>
              <a:gd name="textAreaRight" fmla="*/ 1128600 w 1303200"/>
              <a:gd name="textAreaTop" fmla="*/ 308880 h 1765440"/>
              <a:gd name="textAreaBottom" fmla="*/ 1280160 h 17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3284640"/>
            <a:ext cx="936720" cy="1657080"/>
          </a:xfrm>
          <a:custGeom>
            <a:avLst/>
            <a:gdLst>
              <a:gd name="textAreaLeft" fmla="*/ 125280 w 936720"/>
              <a:gd name="textAreaRight" fmla="*/ 811440 w 936720"/>
              <a:gd name="textAreaTop" fmla="*/ 289800 h 1657080"/>
              <a:gd name="textAreaBottom" fmla="*/ 120132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00720" y="1628640"/>
            <a:ext cx="2303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69228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одель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19640" y="765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72360" y="69228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Результат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8000" y="623736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иагно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4720" y="1052640"/>
            <a:ext cx="2700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ыполнение образовательного стандарта, более высокий уровень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творческого мышления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оображения и речи, чем у детей в традиционной системе обучения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2764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1341360"/>
            <a:ext cx="281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Реализация базисной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рограммы с меньшими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затратами, развитие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ворческого мышления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оображения и речи детей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4076640"/>
            <a:ext cx="6005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1. Обычная комплексная диагностика, принятая в рамках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традиционной модели (педагогическая и психологическая) по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двум аспектам (образовательный и воспитательный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2. Дополнительная диагностика по тем параметрам, которые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редполагается получить дополнительно при использовании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инновационных подходов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9280" y="1484280"/>
            <a:ext cx="2952720" cy="172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Интеграция стандартной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образовательной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рограммы с программой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формирования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авыков творческой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еятельност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1484280"/>
            <a:ext cx="2808360" cy="1800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Реализация базисной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рограммы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формирование готовност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к работе с проблемами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через развитие навыков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ворческой деятельност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1484280"/>
            <a:ext cx="2880000" cy="172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Образовательный стандарт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 рамках базовой программы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ысокий уровень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реативности и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творческого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оображения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4076640"/>
            <a:ext cx="6481800" cy="201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3284640"/>
            <a:ext cx="2952720" cy="431640"/>
          </a:xfrm>
          <a:custGeom>
            <a:avLst/>
            <a:gdLst>
              <a:gd name="textAreaLeft" fmla="*/ 506160 w 2952720"/>
              <a:gd name="textAreaRight" fmla="*/ 2151360 w 29527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408" hR="21600" stAng="10800000" swAng="-5400000"/>
                <a:lnTo>
                  <a:pt x="12033" y="21600"/>
                </a:lnTo>
                <a:arcTo wR="7408" hR="21600" stAng="5400000" swAng="-1827922"/>
                <a:lnTo>
                  <a:pt x="20592" y="10879"/>
                </a:lnTo>
                <a:lnTo>
                  <a:pt x="17128" y="0"/>
                </a:lnTo>
                <a:lnTo>
                  <a:pt x="11647" y="10879"/>
                </a:lnTo>
                <a:lnTo>
                  <a:pt x="13807" y="10879"/>
                </a:lnTo>
                <a:arcTo wR="7408" hR="21600" stAng="3572078" swAng="1442142"/>
                <a:lnTo>
                  <a:pt x="9720" y="20520"/>
                </a:lnTo>
                <a:arcTo wR="7408" hR="21600" stAng="5785780" swAng="5014220"/>
                <a:close/>
              </a:path>
              <a:path fill="darkenLess" w="21600" h="21600">
                <a:moveTo>
                  <a:pt x="0" y="0"/>
                </a:moveTo>
                <a:arcTo wR="7408" hR="21600" stAng="10800000" swAng="-5400000"/>
                <a:lnTo>
                  <a:pt x="12033" y="21600"/>
                </a:lnTo>
                <a:arcTo wR="7408" hR="21600" stAng="5400000" swAng="385780"/>
                <a:lnTo>
                  <a:pt x="9720" y="20520"/>
                </a:lnTo>
                <a:arcTo wR="7408" hR="21600" stAng="5785780" swAng="5014220"/>
                <a:close/>
              </a:path>
            </a:pathLst>
          </a:cu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3284640"/>
            <a:ext cx="3097440" cy="649080"/>
          </a:xfrm>
          <a:custGeom>
            <a:avLst/>
            <a:gdLst>
              <a:gd name="textAreaLeft" fmla="*/ 541800 w 3097440"/>
              <a:gd name="textAreaRight" fmla="*/ 2245680 w 3097440"/>
              <a:gd name="textAreaTop" fmla="*/ 86760 h 649080"/>
              <a:gd name="textAreaBottom" fmla="*/ 5623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298400">
            <a:off x="7740720" y="3284640"/>
            <a:ext cx="834840" cy="1800000"/>
          </a:xfrm>
          <a:custGeom>
            <a:avLst/>
            <a:gdLst>
              <a:gd name="textAreaLeft" fmla="*/ 111600 w 834840"/>
              <a:gd name="textAreaRight" fmla="*/ 723240 w 8348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3284640"/>
            <a:ext cx="936720" cy="1657080"/>
          </a:xfrm>
          <a:custGeom>
            <a:avLst/>
            <a:gdLst>
              <a:gd name="textAreaLeft" fmla="*/ 125280 w 936720"/>
              <a:gd name="textAreaRight" fmla="*/ 811440 w 936720"/>
              <a:gd name="textAreaTop" fmla="*/ 289800 h 1657080"/>
              <a:gd name="textAreaBottom" fmla="*/ 120132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00720" y="1628640"/>
            <a:ext cx="2303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69228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одель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19640" y="765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72360" y="69228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Результат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602136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иагно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5636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4076640"/>
            <a:ext cx="545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Педагогическая диагностика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тандарты традиционной программы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тандарты вариативной программы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Психологическая диагностика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(комплексная)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Медицинская и анатомо-физиологическая диагностик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660066"/>
                </a:solidFill>
                <a:latin typeface="Arial Narrow"/>
              </a:rPr>
              <a:t>Содержание диагностики профессиональной компетенции педагога</a:t>
            </a:r>
            <a:endParaRPr b="1" lang="en-US" sz="3400" spc="-1" strike="noStrike">
              <a:solidFill>
                <a:srgbClr val="660066"/>
              </a:solidFill>
              <a:latin typeface="Arial Narrow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0920" y="1185840"/>
          <a:ext cx="8520120" cy="5672160"/>
        </p:xfrm>
        <a:graphic>
          <a:graphicData uri="http://schemas.openxmlformats.org/drawingml/2006/table">
            <a:tbl>
              <a:tblPr/>
              <a:tblGrid>
                <a:gridCol w="4260600"/>
                <a:gridCol w="4259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бщепрофессиональный компонент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нновационный компонент </a:t>
                      </a: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в рамках ТРИЗ-РТВ-технологии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уманистическая направленность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правленность на воспитание творческой личности, ценностное отношение к проблеме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сихолого-педагогические знания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нимание назначения каждого  из инструментов, владение технологией обучения детей на их основе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пособность и потребность работать от цели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личие у педагога потребности и навыков исследовательской деятельности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мения осуществлять свои профессиональные функции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выки самостоятельного применения ТРИЗ-РТВ-инструментария в педагогическом процессе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ёткое представление  конечного результата образовательного процесса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мение видеть и технологично решать педагогические проблемы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914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 Narrow"/>
              </a:rPr>
              <a:t>Правила проведения диагностической работы</a:t>
            </a:r>
            <a:endParaRPr b="1" lang="en-US" sz="40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55640" y="1557000"/>
            <a:ext cx="576108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1. Специалисты, призванные осуществить диагностику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оспитатель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– педагогическую,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сихолог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– психологическую,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медработник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– медицинскую,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едагог-технолог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– диагностику создаваемого инструментария и профессиональной компетенции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2. Образовательный компонент определяется по программе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(задачи программы формулируются как результат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3. В зависимости от целей инновационной деятельности результаты сравниваются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а) с результатами контрольной группы,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б)  с предшествующими показателями испытуемых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5105520"/>
            <a:ext cx="20160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66"/>
                </a:solidFill>
                <a:latin typeface="Wingdings"/>
                <a:ea typeface="Wingdings"/>
              </a:rPr>
              <a:t></a:t>
            </a:r>
            <a:endParaRPr b="0" lang="en-US" sz="10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Arial Narrow"/>
              </a:rPr>
              <a:t>Анализ качества организации образовательного процесса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95080" y="2580840"/>
            <a:ext cx="4051080" cy="3508560"/>
            <a:chOff x="1495080" y="2580840"/>
            <a:chExt cx="4051080" cy="3508560"/>
          </a:xfrm>
        </p:grpSpPr>
        <p:sp>
          <p:nvSpPr>
            <p:cNvPr id="96" name="_s63494"/>
            <p:cNvSpPr/>
            <p:nvPr/>
          </p:nvSpPr>
          <p:spPr>
            <a:xfrm flipV="1">
              <a:off x="1495080" y="5504760"/>
              <a:ext cx="4051080" cy="584280"/>
            </a:xfrm>
            <a:custGeom>
              <a:avLst/>
              <a:gdLst>
                <a:gd name="textAreaLeft" fmla="*/ 515520 w 4051080"/>
                <a:gd name="textAreaRight" fmla="*/ 3535560 w 4051080"/>
                <a:gd name="textAreaTop" fmla="*/ 74160 h 584280"/>
                <a:gd name="textAreaBottom" fmla="*/ 510120 h 5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Нормативно-правовая база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_s63495"/>
            <p:cNvSpPr/>
            <p:nvPr/>
          </p:nvSpPr>
          <p:spPr>
            <a:xfrm flipV="1">
              <a:off x="1833480" y="4919040"/>
              <a:ext cx="3374640" cy="585720"/>
            </a:xfrm>
            <a:custGeom>
              <a:avLst/>
              <a:gdLst>
                <a:gd name="textAreaLeft" fmla="*/ 460800 w 3374640"/>
                <a:gd name="textAreaRight" fmla="*/ 2913840 w 3374640"/>
                <a:gd name="textAreaTop" fmla="*/ 79920 h 585720"/>
                <a:gd name="textAreaBottom" fmla="*/ 505800 h 5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Профессиональная компетентность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_s63496"/>
            <p:cNvSpPr/>
            <p:nvPr/>
          </p:nvSpPr>
          <p:spPr>
            <a:xfrm flipV="1">
              <a:off x="2170080" y="4334760"/>
              <a:ext cx="2701440" cy="584280"/>
            </a:xfrm>
            <a:custGeom>
              <a:avLst/>
              <a:gdLst>
                <a:gd name="textAreaLeft" fmla="*/ 406440 w 2701440"/>
                <a:gd name="textAreaRight" fmla="*/ 2295000 w 2701440"/>
                <a:gd name="textAreaTop" fmla="*/ 87840 h 584280"/>
                <a:gd name="textAreaBottom" fmla="*/ 496440 h 5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Методическое обеспечение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_s63499"/>
            <p:cNvSpPr/>
            <p:nvPr/>
          </p:nvSpPr>
          <p:spPr>
            <a:xfrm flipV="1">
              <a:off x="2508120" y="3750480"/>
              <a:ext cx="2025360" cy="584280"/>
            </a:xfrm>
            <a:custGeom>
              <a:avLst/>
              <a:gdLst>
                <a:gd name="textAreaLeft" fmla="*/ 351360 w 2025360"/>
                <a:gd name="textAreaRight" fmla="*/ 1674000 w 2025360"/>
                <a:gd name="textAreaTop" fmla="*/ 101160 h 584280"/>
                <a:gd name="textAreaBottom" fmla="*/ 483120 h 5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Развивающая среда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_s63513"/>
            <p:cNvSpPr/>
            <p:nvPr/>
          </p:nvSpPr>
          <p:spPr>
            <a:xfrm flipV="1">
              <a:off x="2846160" y="3164760"/>
              <a:ext cx="1348920" cy="585720"/>
            </a:xfrm>
            <a:custGeom>
              <a:avLst/>
              <a:gdLst>
                <a:gd name="textAreaLeft" fmla="*/ 296640 w 1348920"/>
                <a:gd name="textAreaRight" fmla="*/ 1052280 w 1348920"/>
                <a:gd name="textAreaTop" fmla="*/ 128880 h 585720"/>
                <a:gd name="textAreaBottom" fmla="*/ 456840 h 5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Показатели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детской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успешности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_s63500"/>
            <p:cNvSpPr/>
            <p:nvPr/>
          </p:nvSpPr>
          <p:spPr>
            <a:xfrm flipV="1">
              <a:off x="3182760" y="2580480"/>
              <a:ext cx="676080" cy="584280"/>
            </a:xfrm>
            <a:custGeom>
              <a:avLst/>
              <a:gdLst>
                <a:gd name="textAreaLeft" fmla="*/ 242640 w 676080"/>
                <a:gd name="textAreaRight" fmla="*/ 433440 w 676080"/>
                <a:gd name="textAreaTop" fmla="*/ 209520 h 584280"/>
                <a:gd name="textAreaBottom" fmla="*/ 374760 h 5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Диагностика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 rot="3176400">
            <a:off x="4066200" y="2423160"/>
            <a:ext cx="792360" cy="644400"/>
          </a:xfrm>
          <a:custGeom>
            <a:avLst/>
            <a:gdLst>
              <a:gd name="textAreaLeft" fmla="*/ 131400 w 792360"/>
              <a:gd name="textAreaRight" fmla="*/ 624240 w 792360"/>
              <a:gd name="textAreaTop" fmla="*/ 86040 h 644400"/>
              <a:gd name="textAreaBottom" fmla="*/ 558360 h 64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176" hR="21600" stAng="10800000" swAng="5400000"/>
                <a:lnTo>
                  <a:pt x="13423" y="0"/>
                </a:lnTo>
                <a:arcTo wR="7176" hR="21600" stAng="-5400000" swAng="2730745"/>
                <a:lnTo>
                  <a:pt x="21246" y="14899"/>
                </a:lnTo>
                <a:lnTo>
                  <a:pt x="17476" y="21600"/>
                </a:lnTo>
                <a:lnTo>
                  <a:pt x="12997" y="14899"/>
                </a:lnTo>
                <a:lnTo>
                  <a:pt x="13998" y="14899"/>
                </a:lnTo>
                <a:arcTo wR="7176" hR="21600" stAng="-2669255" swAng="-2183249"/>
                <a:lnTo>
                  <a:pt x="10300" y="2154"/>
                </a:lnTo>
                <a:arcTo wR="7176" hR="21600" stAng="-5947496" swAng="-4852504"/>
                <a:close/>
              </a:path>
              <a:path fill="darkenLess" w="21600" h="21600">
                <a:moveTo>
                  <a:pt x="0" y="21600"/>
                </a:moveTo>
                <a:arcTo wR="7176" hR="21600" stAng="10800000" swAng="5400000"/>
                <a:lnTo>
                  <a:pt x="7176" y="0"/>
                </a:lnTo>
                <a:arcTo wR="7176" hR="21600" stAng="-5400000" swAng="547496"/>
                <a:lnTo>
                  <a:pt x="10300" y="2154"/>
                </a:lnTo>
                <a:arcTo wR="7176" hR="21600" stAng="-5947496" swAng="-4852504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rot="19901400">
            <a:off x="4642920" y="1773360"/>
            <a:ext cx="1400400" cy="3600360"/>
          </a:xfrm>
          <a:custGeom>
            <a:avLst/>
            <a:gdLst>
              <a:gd name="textAreaLeft" fmla="*/ 187560 w 1400400"/>
              <a:gd name="textAreaRight" fmla="*/ 1212840 w 1400400"/>
              <a:gd name="textAreaTop" fmla="*/ 725760 h 3600360"/>
              <a:gd name="textAreaBottom" fmla="*/ 242784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0" stAng="-5400000" swAng="-5400000"/>
                <a:lnTo>
                  <a:pt x="0" y="10211"/>
                </a:lnTo>
                <a:arcTo wR="21600" hR="8710" stAng="10800000" swAng="-2809588"/>
                <a:lnTo>
                  <a:pt x="13957" y="21037"/>
                </a:lnTo>
                <a:lnTo>
                  <a:pt x="21600" y="18171"/>
                </a:lnTo>
                <a:lnTo>
                  <a:pt x="13957" y="14178"/>
                </a:lnTo>
                <a:lnTo>
                  <a:pt x="13957" y="16857"/>
                </a:lnTo>
                <a:arcTo wR="21600" hR="8710" stAng="7990412" swAng="2689745"/>
                <a:lnTo>
                  <a:pt x="80" y="9461"/>
                </a:lnTo>
                <a:arcTo wR="21600" hR="8710" stAng="-10680157" swAng="5280157"/>
                <a:close/>
              </a:path>
              <a:path fill="darkenLess" w="21600" h="21600">
                <a:moveTo>
                  <a:pt x="21600" y="0"/>
                </a:moveTo>
                <a:arcTo wR="21600" hR="8710" stAng="-5400000" swAng="-5400000"/>
                <a:lnTo>
                  <a:pt x="0" y="8710"/>
                </a:lnTo>
                <a:arcTo wR="21600" hR="8710" stAng="10800000" swAng="-119843"/>
                <a:lnTo>
                  <a:pt x="80" y="9461"/>
                </a:lnTo>
                <a:arcTo wR="21600" hR="8710" stAng="-10680157" swAng="5280157"/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2276640"/>
            <a:ext cx="3097440" cy="1079280"/>
          </a:xfrm>
          <a:prstGeom prst="leftArrow">
            <a:avLst>
              <a:gd name="adj1" fmla="val 50000"/>
              <a:gd name="adj2" fmla="val 71748"/>
            </a:avLst>
          </a:pr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Зависит от целей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инновационной деятельности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4653000"/>
            <a:ext cx="2808360" cy="865080"/>
          </a:xfrm>
          <a:prstGeom prst="leftArrow">
            <a:avLst>
              <a:gd name="adj1" fmla="val 50000"/>
              <a:gd name="adj2" fmla="val 81159"/>
            </a:avLst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10800000"/>
          </a:gra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Ориентиры для повышения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профессионализма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160" y="549360"/>
            <a:ext cx="6095880" cy="120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ial Narrow"/>
              </a:rPr>
              <a:t>Базовые положения</a:t>
            </a:r>
            <a:endParaRPr b="1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757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одели организации образовательного процесса, построенного с использованием ТРИЗ-РТВ-технологи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иды  диагностической деятельност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ехнология выбора диагностических методик детской успешности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авила осуществления диагностической работ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3612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ial Narrow"/>
              </a:rPr>
              <a:t>Модели организации образовательного процесса, построенного с использованием ТРИЗ-РТВ-технологии</a:t>
            </a:r>
            <a:endParaRPr b="1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2637000"/>
            <a:ext cx="849780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спользование в личной практике отдельных инструментов или методик, применяемых в ТРИЗ-педагогике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пециальный курс ТРИЗ и РТВ, цель которого -  изучение основ ТРИЗ как отдельной образовательной дисциплины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спользование ТРИЗ-РТВ-инструментария в образовательном процессе по обычной программе, как набор действенных методов реализации стандартного содержания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теграция стандартной образовательной программы с программой формирования навыков творческой деятельности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-181080" y="2336760"/>
            <a:ext cx="9576720" cy="2828880"/>
            <a:chOff x="-181080" y="2336760"/>
            <a:chExt cx="9576720" cy="2828880"/>
          </a:xfrm>
        </p:grpSpPr>
        <p:cxnSp>
          <p:nvCxnSpPr>
            <p:cNvPr id="111" name="_s56352"/>
            <p:cNvCxnSpPr>
              <a:stCxn id="112" idx="0"/>
              <a:endCxn id="113" idx="2"/>
            </p:cNvCxnSpPr>
            <p:nvPr/>
          </p:nvCxnSpPr>
          <p:spPr>
            <a:xfrm rot="10800000">
              <a:off x="6201720" y="3793320"/>
              <a:ext cx="456840" cy="1143720"/>
            </a:xfrm>
            <a:prstGeom prst="bentConnector2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14" name="_s56350"/>
            <p:cNvCxnSpPr>
              <a:stCxn id="115" idx="0"/>
              <a:endCxn id="113" idx="1"/>
            </p:cNvCxnSpPr>
            <p:nvPr/>
          </p:nvCxnSpPr>
          <p:spPr>
            <a:xfrm rot="10800000">
              <a:off x="6201720" y="3793320"/>
              <a:ext cx="456840" cy="457920"/>
            </a:xfrm>
            <a:prstGeom prst="bentConnector2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16" name="_s56348"/>
            <p:cNvCxnSpPr>
              <a:stCxn id="117" idx="0"/>
              <a:endCxn id="118" idx="2"/>
            </p:cNvCxnSpPr>
            <p:nvPr/>
          </p:nvCxnSpPr>
          <p:spPr>
            <a:xfrm flipV="1">
              <a:off x="2555640" y="3793320"/>
              <a:ext cx="459720" cy="1143720"/>
            </a:xfrm>
            <a:prstGeom prst="bentConnector2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19" name="_s56346"/>
            <p:cNvCxnSpPr>
              <a:stCxn id="120" idx="0"/>
              <a:endCxn id="118" idx="1"/>
            </p:cNvCxnSpPr>
            <p:nvPr/>
          </p:nvCxnSpPr>
          <p:spPr>
            <a:xfrm flipV="1">
              <a:off x="2555640" y="3793680"/>
              <a:ext cx="459720" cy="457920"/>
            </a:xfrm>
            <a:prstGeom prst="bentConnector2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21" name="_s56343"/>
            <p:cNvCxnSpPr>
              <a:stCxn id="113" idx="0"/>
              <a:endCxn id="122" idx="1"/>
            </p:cNvCxnSpPr>
            <p:nvPr/>
          </p:nvCxnSpPr>
          <p:spPr>
            <a:xfrm flipV="1" rot="16200000">
              <a:off x="5290560" y="2424960"/>
              <a:ext cx="229320" cy="1594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23" name="_s56342"/>
            <p:cNvCxnSpPr>
              <a:stCxn id="118" idx="0"/>
              <a:endCxn id="122" idx="0"/>
            </p:cNvCxnSpPr>
            <p:nvPr/>
          </p:nvCxnSpPr>
          <p:spPr>
            <a:xfrm flipH="1" flipV="1" rot="5400000">
              <a:off x="3697200" y="2425320"/>
              <a:ext cx="229320" cy="1594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22" name="_s56338"/>
            <p:cNvSpPr/>
            <p:nvPr/>
          </p:nvSpPr>
          <p:spPr>
            <a:xfrm>
              <a:off x="1976400" y="2336760"/>
              <a:ext cx="5261760" cy="771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cc6600"/>
                </a:gs>
                <a:gs pos="100000">
                  <a:srgbClr val="9999ff"/>
                </a:gs>
              </a:gsLst>
              <a:lin ang="8100000"/>
            </a:gradFill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66"/>
                  </a:solidFill>
                  <a:latin typeface="Times New Roman"/>
                </a:rPr>
                <a:t>По объекту исследования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_s56339"/>
            <p:cNvSpPr/>
            <p:nvPr/>
          </p:nvSpPr>
          <p:spPr>
            <a:xfrm>
              <a:off x="1646640" y="3336840"/>
              <a:ext cx="273420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cc6600"/>
                </a:gs>
                <a:gs pos="100000">
                  <a:srgbClr val="ffffcc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66"/>
                  </a:solidFill>
                  <a:latin typeface="Times New Roman"/>
                </a:rPr>
                <a:t>Дети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_s56340"/>
            <p:cNvSpPr/>
            <p:nvPr/>
          </p:nvSpPr>
          <p:spPr>
            <a:xfrm>
              <a:off x="4837320" y="3336840"/>
              <a:ext cx="273348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cc6600"/>
                </a:gs>
                <a:gs pos="100000">
                  <a:srgbClr val="ffffcc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66"/>
                  </a:solidFill>
                  <a:latin typeface="Times New Roman"/>
                </a:rPr>
                <a:t>Педагог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_s56345"/>
            <p:cNvSpPr/>
            <p:nvPr/>
          </p:nvSpPr>
          <p:spPr>
            <a:xfrm>
              <a:off x="-181080" y="4022640"/>
              <a:ext cx="273708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66"/>
                </a:gs>
                <a:gs pos="50000">
                  <a:srgbClr val="cc6600"/>
                </a:gs>
                <a:gs pos="100000">
                  <a:srgbClr val="ff9966"/>
                </a:gs>
              </a:gsLst>
              <a:lin ang="8100000"/>
            </a:gra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66"/>
                  </a:solidFill>
                  <a:latin typeface="Times New Roman"/>
                </a:rPr>
                <a:t>ПЕДАГОГИЧЕСКАЯ</a:t>
              </a:r>
              <a:r>
                <a:rPr b="0" lang="ru-RU" sz="1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66"/>
                  </a:solidFill>
                  <a:latin typeface="Times New Roman"/>
                </a:rPr>
                <a:t>ДИАГНОСТИКА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_s56347"/>
            <p:cNvSpPr/>
            <p:nvPr/>
          </p:nvSpPr>
          <p:spPr>
            <a:xfrm>
              <a:off x="-181080" y="4708440"/>
              <a:ext cx="273708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66"/>
                </a:gs>
                <a:gs pos="50000">
                  <a:srgbClr val="cc6600"/>
                </a:gs>
                <a:gs pos="100000">
                  <a:srgbClr val="ff9966"/>
                </a:gs>
              </a:gsLst>
              <a:lin ang="8100000"/>
            </a:gra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560" rIns="3456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66"/>
                  </a:solidFill>
                  <a:latin typeface="Times New Roman"/>
                </a:rPr>
                <a:t>ПСИХОЛОГИЧЕСКАЯ</a:t>
              </a:r>
              <a:r>
                <a:rPr b="0" lang="ru-RU" sz="1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66"/>
                  </a:solidFill>
                  <a:latin typeface="Times New Roman"/>
                </a:rPr>
                <a:t>ДИАГНОСТИКА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_s56349"/>
            <p:cNvSpPr/>
            <p:nvPr/>
          </p:nvSpPr>
          <p:spPr>
            <a:xfrm>
              <a:off x="6658560" y="4022640"/>
              <a:ext cx="273708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66"/>
                </a:gs>
                <a:gs pos="50000">
                  <a:srgbClr val="cc6600"/>
                </a:gs>
                <a:gs pos="100000">
                  <a:srgbClr val="ff9966"/>
                </a:gs>
              </a:gsLst>
              <a:lin ang="8100000"/>
            </a:gra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66"/>
                  </a:solidFill>
                  <a:latin typeface="Times New Roman"/>
                </a:rPr>
                <a:t>ЛИЧНЫЕ</a:t>
              </a:r>
              <a:r>
                <a:rPr b="0" lang="ru-RU" sz="1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66"/>
                  </a:solidFill>
                  <a:latin typeface="Times New Roman"/>
                </a:rPr>
                <a:t>НАВЫКИ</a:t>
              </a:r>
              <a:r>
                <a:rPr b="0" lang="ru-RU" sz="1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66"/>
                  </a:solidFill>
                  <a:latin typeface="Times New Roman"/>
                </a:rPr>
                <a:t>В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66"/>
                  </a:solidFill>
                  <a:latin typeface="Times New Roman"/>
                </a:rPr>
                <a:t>ТРИЗ-РТВ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_s56351"/>
            <p:cNvSpPr/>
            <p:nvPr/>
          </p:nvSpPr>
          <p:spPr>
            <a:xfrm>
              <a:off x="6658560" y="4708440"/>
              <a:ext cx="273708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66"/>
                </a:gs>
                <a:gs pos="50000">
                  <a:srgbClr val="cc6600"/>
                </a:gs>
                <a:gs pos="100000">
                  <a:srgbClr val="ff9966"/>
                </a:gs>
              </a:gsLst>
              <a:lin ang="8100000"/>
            </a:gra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66"/>
                  </a:solidFill>
                  <a:latin typeface="Times New Roman"/>
                </a:rPr>
                <a:t>ПРОФЕССИОНАЛЬНАЯ</a:t>
              </a:r>
              <a:r>
                <a:rPr b="0" lang="ru-RU" sz="1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66"/>
                  </a:solidFill>
                  <a:latin typeface="Times New Roman"/>
                </a:rPr>
                <a:t>КОМПЕТЕНЦИЯ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256600" cy="143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Arial Narrow"/>
              </a:rPr>
              <a:t>Виды  диагностической деятельности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3492360" y="467532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1299960"/>
            <a:ext cx="8996400" cy="4584600"/>
            <a:chOff x="0" y="1299960"/>
            <a:chExt cx="8996400" cy="4584600"/>
          </a:xfrm>
        </p:grpSpPr>
        <p:cxnSp>
          <p:nvCxnSpPr>
            <p:cNvPr id="127" name="_s18535"/>
            <p:cNvCxnSpPr>
              <a:stCxn id="128" idx="0"/>
              <a:endCxn id="129" idx="4"/>
            </p:cNvCxnSpPr>
            <p:nvPr/>
          </p:nvCxnSpPr>
          <p:spPr>
            <a:xfrm rot="10800000">
              <a:off x="5960880" y="3277440"/>
              <a:ext cx="157680" cy="2412000"/>
            </a:xfrm>
            <a:prstGeom prst="bentConnector2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30" name="_s18533"/>
            <p:cNvCxnSpPr>
              <a:stCxn id="131" idx="0"/>
              <a:endCxn id="129" idx="3"/>
            </p:cNvCxnSpPr>
            <p:nvPr/>
          </p:nvCxnSpPr>
          <p:spPr>
            <a:xfrm rot="10800000">
              <a:off x="5960880" y="3277440"/>
              <a:ext cx="157680" cy="1735560"/>
            </a:xfrm>
            <a:prstGeom prst="bentConnector2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32" name="_s18531"/>
            <p:cNvCxnSpPr>
              <a:stCxn id="133" idx="0"/>
              <a:endCxn id="129" idx="2"/>
            </p:cNvCxnSpPr>
            <p:nvPr/>
          </p:nvCxnSpPr>
          <p:spPr>
            <a:xfrm rot="10800000">
              <a:off x="5960880" y="3277440"/>
              <a:ext cx="157680" cy="1059840"/>
            </a:xfrm>
            <a:prstGeom prst="bentConnector2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34" name="_s18529"/>
            <p:cNvCxnSpPr>
              <a:stCxn id="135" idx="0"/>
              <a:endCxn id="129" idx="1"/>
            </p:cNvCxnSpPr>
            <p:nvPr/>
          </p:nvCxnSpPr>
          <p:spPr>
            <a:xfrm rot="10800000">
              <a:off x="5960880" y="3277440"/>
              <a:ext cx="157680" cy="383760"/>
            </a:xfrm>
            <a:prstGeom prst="bentConnector2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36" name="_s18527"/>
            <p:cNvCxnSpPr>
              <a:stCxn id="137" idx="0"/>
              <a:endCxn id="138" idx="2"/>
            </p:cNvCxnSpPr>
            <p:nvPr/>
          </p:nvCxnSpPr>
          <p:spPr>
            <a:xfrm flipV="1">
              <a:off x="2877480" y="3277800"/>
              <a:ext cx="159480" cy="1059840"/>
            </a:xfrm>
            <a:prstGeom prst="bentConnector2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39" name="_s18525"/>
            <p:cNvCxnSpPr>
              <a:stCxn id="140" idx="0"/>
              <a:endCxn id="138" idx="1"/>
            </p:cNvCxnSpPr>
            <p:nvPr/>
          </p:nvCxnSpPr>
          <p:spPr>
            <a:xfrm flipV="1">
              <a:off x="2877480" y="3277800"/>
              <a:ext cx="159480" cy="383760"/>
            </a:xfrm>
            <a:prstGeom prst="bentConnector2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1" name="_s18519"/>
            <p:cNvCxnSpPr>
              <a:stCxn id="129" idx="0"/>
              <a:endCxn id="142" idx="1"/>
            </p:cNvCxnSpPr>
            <p:nvPr/>
          </p:nvCxnSpPr>
          <p:spPr>
            <a:xfrm flipV="1" rot="16200000">
              <a:off x="5135400" y="1404720"/>
              <a:ext cx="188280" cy="1463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3" name="_s18517"/>
            <p:cNvCxnSpPr>
              <a:stCxn id="138" idx="0"/>
              <a:endCxn id="142" idx="0"/>
            </p:cNvCxnSpPr>
            <p:nvPr/>
          </p:nvCxnSpPr>
          <p:spPr>
            <a:xfrm flipH="1" flipV="1" rot="5400000">
              <a:off x="3673440" y="1405440"/>
              <a:ext cx="188280" cy="1462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42" name="_s18513"/>
            <p:cNvSpPr/>
            <p:nvPr/>
          </p:nvSpPr>
          <p:spPr>
            <a:xfrm>
              <a:off x="1053360" y="1299960"/>
              <a:ext cx="6887880" cy="7430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cc6600"/>
                </a:gs>
                <a:gs pos="100000">
                  <a:srgbClr val="9999ff"/>
                </a:gs>
              </a:gsLst>
              <a:lin ang="8100000"/>
            </a:gradFill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0066"/>
                  </a:solidFill>
                  <a:latin typeface="Times New Roman"/>
                </a:rPr>
                <a:t>Показатели детской успешности</a:t>
              </a:r>
              <a:endParaRPr b="0" lang="en-US" sz="3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_s18514"/>
            <p:cNvSpPr/>
            <p:nvPr/>
          </p:nvSpPr>
          <p:spPr>
            <a:xfrm>
              <a:off x="1652400" y="2230560"/>
              <a:ext cx="2766600" cy="1047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cc6600"/>
                </a:gs>
                <a:gs pos="100000">
                  <a:srgbClr val="ffffcc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66"/>
                  </a:solidFill>
                  <a:latin typeface="Times New Roman"/>
                </a:rPr>
                <a:t>Педагогическая</a:t>
              </a:r>
              <a:endParaRPr b="0" lang="en-US" sz="25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66"/>
                  </a:solidFill>
                  <a:latin typeface="Times New Roman"/>
                </a:rPr>
                <a:t>диагностика</a:t>
              </a:r>
              <a:endParaRPr b="0" lang="en-US" sz="2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_s18516"/>
            <p:cNvSpPr/>
            <p:nvPr/>
          </p:nvSpPr>
          <p:spPr>
            <a:xfrm>
              <a:off x="4577040" y="2230560"/>
              <a:ext cx="2766600" cy="1047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cc6600"/>
                </a:gs>
                <a:gs pos="100000">
                  <a:srgbClr val="ffffcc"/>
                </a:gs>
              </a:gsLst>
              <a:lin ang="8100000"/>
            </a:gra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66"/>
                  </a:solidFill>
                  <a:latin typeface="Times New Roman"/>
                </a:rPr>
                <a:t>Психологическая </a:t>
              </a:r>
              <a:endParaRPr b="0" lang="en-US" sz="25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66"/>
                  </a:solidFill>
                  <a:latin typeface="Times New Roman"/>
                </a:rPr>
                <a:t>диагностика</a:t>
              </a:r>
              <a:endParaRPr b="0" lang="en-US" sz="2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_s18524"/>
            <p:cNvSpPr/>
            <p:nvPr/>
          </p:nvSpPr>
          <p:spPr>
            <a:xfrm>
              <a:off x="0" y="3465720"/>
              <a:ext cx="2877840" cy="39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66"/>
                </a:gs>
                <a:gs pos="50000">
                  <a:srgbClr val="cc6600"/>
                </a:gs>
                <a:gs pos="100000">
                  <a:srgbClr val="ff9966"/>
                </a:gs>
              </a:gsLst>
              <a:lin ang="8100000"/>
            </a:gra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</a:rPr>
                <a:t>Образовательный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</a:rPr>
                <a:t>компонент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_s18526"/>
            <p:cNvSpPr/>
            <p:nvPr/>
          </p:nvSpPr>
          <p:spPr>
            <a:xfrm>
              <a:off x="0" y="4141800"/>
              <a:ext cx="2877840" cy="39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66"/>
                </a:gs>
                <a:gs pos="50000">
                  <a:srgbClr val="cc6600"/>
                </a:gs>
                <a:gs pos="100000">
                  <a:srgbClr val="ff9966"/>
                </a:gs>
              </a:gsLst>
              <a:lin ang="8100000"/>
            </a:gra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</a:rPr>
                <a:t>Воспитательный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</a:rPr>
                <a:t>компонент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_s18528"/>
            <p:cNvSpPr/>
            <p:nvPr/>
          </p:nvSpPr>
          <p:spPr>
            <a:xfrm>
              <a:off x="6118560" y="3465720"/>
              <a:ext cx="2877840" cy="39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66"/>
                </a:gs>
                <a:gs pos="50000">
                  <a:srgbClr val="cc6600"/>
                </a:gs>
                <a:gs pos="100000">
                  <a:srgbClr val="ff9966"/>
                </a:gs>
              </a:gsLst>
              <a:lin ang="8100000"/>
            </a:gra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</a:rPr>
                <a:t>Мыслительные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</a:rPr>
                <a:t>процессы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_s18530"/>
            <p:cNvSpPr/>
            <p:nvPr/>
          </p:nvSpPr>
          <p:spPr>
            <a:xfrm>
              <a:off x="6118560" y="4141800"/>
              <a:ext cx="2877840" cy="39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66"/>
                </a:gs>
                <a:gs pos="50000">
                  <a:srgbClr val="cc6600"/>
                </a:gs>
                <a:gs pos="100000">
                  <a:srgbClr val="ff9966"/>
                </a:gs>
              </a:gsLst>
              <a:lin ang="8100000"/>
            </a:gra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</a:rPr>
                <a:t>Креативность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_s18532"/>
            <p:cNvSpPr/>
            <p:nvPr/>
          </p:nvSpPr>
          <p:spPr>
            <a:xfrm>
              <a:off x="6118560" y="4818240"/>
              <a:ext cx="2877840" cy="390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66"/>
                </a:gs>
                <a:gs pos="50000">
                  <a:srgbClr val="cc6600"/>
                </a:gs>
                <a:gs pos="100000">
                  <a:srgbClr val="ff9966"/>
                </a:gs>
              </a:gsLst>
              <a:lin ang="8100000"/>
            </a:gra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</a:rPr>
                <a:t>Волевой компонент </a:t>
              </a:r>
              <a:r>
                <a:rPr b="0" lang="ru-RU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_s18534"/>
            <p:cNvSpPr/>
            <p:nvPr/>
          </p:nvSpPr>
          <p:spPr>
            <a:xfrm>
              <a:off x="6118560" y="5493960"/>
              <a:ext cx="2877840" cy="39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66"/>
                </a:gs>
                <a:gs pos="50000">
                  <a:srgbClr val="cc6600"/>
                </a:gs>
                <a:gs pos="100000">
                  <a:srgbClr val="ff9966"/>
                </a:gs>
              </a:gsLst>
              <a:lin ang="8100000"/>
            </a:gra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</a:rPr>
                <a:t>Эмоциональный компонент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0912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 Narrow"/>
              </a:rPr>
              <a:t>Технология выбора диагностических методик детской успешности</a:t>
            </a:r>
            <a:endParaRPr b="1" lang="en-US" sz="40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2133720"/>
            <a:ext cx="3024360" cy="10792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пределить модель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использования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РИЗ-РТВ-технологи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2133720"/>
            <a:ext cx="2448000" cy="10792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формулировать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цели её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использования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2133720"/>
            <a:ext cx="2662560" cy="11509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писать ожидаемый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езультат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4076640"/>
            <a:ext cx="6335640" cy="1368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Исходя из целей и ожидаемого результата определить,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что отслеживается и какими средствам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3284640"/>
            <a:ext cx="2952720" cy="431640"/>
          </a:xfrm>
          <a:custGeom>
            <a:avLst/>
            <a:gdLst>
              <a:gd name="textAreaLeft" fmla="*/ 506160 w 2952720"/>
              <a:gd name="textAreaRight" fmla="*/ 2151360 w 29527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408" hR="21600" stAng="10800000" swAng="-5400000"/>
                <a:lnTo>
                  <a:pt x="12033" y="21600"/>
                </a:lnTo>
                <a:arcTo wR="7408" hR="21600" stAng="5400000" swAng="-1827922"/>
                <a:lnTo>
                  <a:pt x="20592" y="10879"/>
                </a:lnTo>
                <a:lnTo>
                  <a:pt x="17128" y="0"/>
                </a:lnTo>
                <a:lnTo>
                  <a:pt x="11647" y="10879"/>
                </a:lnTo>
                <a:lnTo>
                  <a:pt x="13807" y="10879"/>
                </a:lnTo>
                <a:arcTo wR="7408" hR="21600" stAng="3572078" swAng="1442142"/>
                <a:lnTo>
                  <a:pt x="9720" y="20520"/>
                </a:lnTo>
                <a:arcTo wR="7408" hR="21600" stAng="5785780" swAng="5014220"/>
                <a:close/>
              </a:path>
              <a:path fill="darkenLess" w="21600" h="21600">
                <a:moveTo>
                  <a:pt x="0" y="0"/>
                </a:moveTo>
                <a:arcTo wR="7408" hR="21600" stAng="10800000" swAng="-5400000"/>
                <a:lnTo>
                  <a:pt x="12033" y="21600"/>
                </a:lnTo>
                <a:arcTo wR="7408" hR="21600" stAng="5400000" swAng="385780"/>
                <a:lnTo>
                  <a:pt x="9720" y="20520"/>
                </a:lnTo>
                <a:arcTo wR="7408" hR="21600" stAng="5785780" swAng="5014220"/>
                <a:close/>
              </a:path>
            </a:pathLst>
          </a:cu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3284640"/>
            <a:ext cx="3097440" cy="649080"/>
          </a:xfrm>
          <a:custGeom>
            <a:avLst/>
            <a:gdLst>
              <a:gd name="textAreaLeft" fmla="*/ 541800 w 3097440"/>
              <a:gd name="textAreaRight" fmla="*/ 2245680 w 3097440"/>
              <a:gd name="textAreaTop" fmla="*/ 86760 h 649080"/>
              <a:gd name="textAreaBottom" fmla="*/ 5623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377600">
            <a:off x="7596360" y="3500280"/>
            <a:ext cx="1366560" cy="1527480"/>
          </a:xfrm>
          <a:custGeom>
            <a:avLst/>
            <a:gdLst>
              <a:gd name="textAreaLeft" fmla="*/ 182880 w 1366560"/>
              <a:gd name="textAreaRight" fmla="*/ 1183680 w 1366560"/>
              <a:gd name="textAreaTop" fmla="*/ 267120 h 1527480"/>
              <a:gd name="textAreaBottom" fmla="*/ 1107360 h 152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3284640"/>
            <a:ext cx="936720" cy="1657080"/>
          </a:xfrm>
          <a:custGeom>
            <a:avLst/>
            <a:gdLst>
              <a:gd name="textAreaLeft" fmla="*/ 125280 w 936720"/>
              <a:gd name="textAreaRight" fmla="*/ 811440 w 936720"/>
              <a:gd name="textAreaTop" fmla="*/ 289800 h 1657080"/>
              <a:gd name="textAreaBottom" fmla="*/ 120132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557360"/>
            <a:ext cx="3024360" cy="1655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Использование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отдельных инструментов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или методик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рименяемых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 ТРИЗ-педагогик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1557360"/>
            <a:ext cx="2735280" cy="1655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Формирование навы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здания речевого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ворческого продукт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1557360"/>
            <a:ext cx="2662560" cy="1655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4076640"/>
            <a:ext cx="6481800" cy="1368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а основе наблюдения выявляем умение ребёнк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здать творческий речевой продукт по заявленным моделям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(умеет или не умеет, степень самостоятельности)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3284640"/>
            <a:ext cx="2952720" cy="431640"/>
          </a:xfrm>
          <a:custGeom>
            <a:avLst/>
            <a:gdLst>
              <a:gd name="textAreaLeft" fmla="*/ 506160 w 2952720"/>
              <a:gd name="textAreaRight" fmla="*/ 2151360 w 29527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408" hR="21600" stAng="10800000" swAng="-5400000"/>
                <a:lnTo>
                  <a:pt x="12033" y="21600"/>
                </a:lnTo>
                <a:arcTo wR="7408" hR="21600" stAng="5400000" swAng="-1827922"/>
                <a:lnTo>
                  <a:pt x="20592" y="10879"/>
                </a:lnTo>
                <a:lnTo>
                  <a:pt x="17128" y="0"/>
                </a:lnTo>
                <a:lnTo>
                  <a:pt x="11647" y="10879"/>
                </a:lnTo>
                <a:lnTo>
                  <a:pt x="13807" y="10879"/>
                </a:lnTo>
                <a:arcTo wR="7408" hR="21600" stAng="3572078" swAng="1442142"/>
                <a:lnTo>
                  <a:pt x="9720" y="20520"/>
                </a:lnTo>
                <a:arcTo wR="7408" hR="21600" stAng="5785780" swAng="5014220"/>
                <a:close/>
              </a:path>
              <a:path fill="darkenLess" w="21600" h="21600">
                <a:moveTo>
                  <a:pt x="0" y="0"/>
                </a:moveTo>
                <a:arcTo wR="7408" hR="21600" stAng="10800000" swAng="-5400000"/>
                <a:lnTo>
                  <a:pt x="12033" y="21600"/>
                </a:lnTo>
                <a:arcTo wR="7408" hR="21600" stAng="5400000" swAng="385780"/>
                <a:lnTo>
                  <a:pt x="9720" y="20520"/>
                </a:lnTo>
                <a:arcTo wR="7408" hR="21600" stAng="5785780" swAng="5014220"/>
                <a:close/>
              </a:path>
            </a:pathLst>
          </a:cu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3284640"/>
            <a:ext cx="3097440" cy="649080"/>
          </a:xfrm>
          <a:custGeom>
            <a:avLst/>
            <a:gdLst>
              <a:gd name="textAreaLeft" fmla="*/ 541800 w 3097440"/>
              <a:gd name="textAreaRight" fmla="*/ 2245680 w 3097440"/>
              <a:gd name="textAreaTop" fmla="*/ 86760 h 649080"/>
              <a:gd name="textAreaBottom" fmla="*/ 5623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377600">
            <a:off x="7624800" y="3360240"/>
            <a:ext cx="1303200" cy="1765440"/>
          </a:xfrm>
          <a:custGeom>
            <a:avLst/>
            <a:gdLst>
              <a:gd name="textAreaLeft" fmla="*/ 174600 w 1303200"/>
              <a:gd name="textAreaRight" fmla="*/ 1128600 w 1303200"/>
              <a:gd name="textAreaTop" fmla="*/ 308880 h 1765440"/>
              <a:gd name="textAreaBottom" fmla="*/ 1280160 h 17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3284640"/>
            <a:ext cx="936720" cy="1657080"/>
          </a:xfrm>
          <a:custGeom>
            <a:avLst/>
            <a:gdLst>
              <a:gd name="textAreaLeft" fmla="*/ 125280 w 936720"/>
              <a:gd name="textAreaRight" fmla="*/ 811440 w 936720"/>
              <a:gd name="textAreaTop" fmla="*/ 289800 h 1657080"/>
              <a:gd name="textAreaBottom" fmla="*/ 120132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1628640"/>
            <a:ext cx="2303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69228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одель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765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69228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Результат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7340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иагно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18446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здание детьми речевых творческих продукт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Arial Narrow"/>
              </a:rPr>
              <a:t>Дополнительно:</a:t>
            </a:r>
            <a:endParaRPr b="1" lang="en-US" sz="48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5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иагностика уровня развития речи (традиционная)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иагностика каждого из специальных ЗУН в рамках используемых моделей (знание алгоритма сказки, умение принять точку зрения героя… и т.д.)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сихологическая диагностика системности и креативности мышления, управляемости воображения, если по умолчанию принимается, что используемые модели это формируют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4T17:59:11Z</dcterms:created>
  <dc:creator>Anna Korzun</dc:creator>
  <dc:description/>
  <dc:language>en-US</dc:language>
  <cp:lastModifiedBy>Dmitry</cp:lastModifiedBy>
  <dcterms:modified xsi:type="dcterms:W3CDTF">2004-10-20T15:49:02Z</dcterms:modified>
  <cp:revision>49</cp:revision>
  <dc:subject/>
  <dc:title>Диагностика образовательного процесса в дошкольном учреждении, системно использующем ТРИЗ-РТВ-технологию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